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DD1-30D3-4982-813E-3E42FDCC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04A-95F9-41BA-B45D-5B4B0CB9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A37-C7D0-4DD5-9E6E-BA43867A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E20-4245-49AA-B3B4-692461C9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ABFF-B2DE-4A8D-BFC5-6D2003DF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FD37-7AFE-44B4-9D85-87441590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2EA7-ADD6-4E8C-8CB3-06C546B6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2E19-1615-4730-A58B-0196167B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8DE0-AF69-4907-B9AA-331CE87D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AECC-B978-4B65-8B8C-39AB43DC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ED84-FA23-48F2-9CDA-5864163B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F81-F5C7-4A89-9511-944299F5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2622-5B52-42E7-BE83-C66CB738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5872-0C04-4541-9614-309E88F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0528-D85E-4261-AB61-DC68FBA3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B9ED-0E3F-4DC2-8C8F-F7E20C73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5E46-EA1F-40F1-9BB7-488D8F6C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D24F8-D534-46C6-8C44-968080D3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4358-7302-48F4-91CF-31A65AD1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18B4-3DB6-470E-9539-AEA7A6D5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C2F0-183D-4085-A978-607FB21C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3977-D0C7-41B0-921D-E9A93EC7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B2B-42BF-495A-A179-7BC00657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EF2A-0ADF-4868-B844-C02AA963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5BB9-A651-4BD4-A79C-E5A4A9E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04AB-00A9-4772-9CBD-D69161E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2332-E7DE-4ADD-A743-A2F4EE99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8E56-B058-428B-A0FE-AFA6657C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8179-C955-4C10-9458-A456DE99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762D-C1AE-4410-B8CE-B47EB0EA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57DDE-E503-47B3-A914-064A69D6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B96D-A016-40A8-AB60-0A5D8A4C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851F-C08D-4B34-8663-D493A301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298-5322-41BB-9523-13EC73B4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F397E-E2C3-4966-A35C-960CAC4C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8BB34-9CF5-4DE4-8541-E22B0810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EBDA-C876-433A-B2C5-3BCCAAE2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2AA3-5346-4766-B6BB-6E35FB17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393EE-09A2-4465-AAE7-52672E16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0D166-DF54-414C-996C-BDD5EDF2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9FAF2-5CB8-43A1-AB97-5E9E80D6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BCD1-1AA1-497F-93AE-9EEE46B9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5E4D-BA36-4FA6-B7B2-7333060E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A44-D2F1-49A7-9654-5E98D05F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C63-441D-490D-BE9F-D6E5243A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F01-21BF-4C21-AED7-011E0292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FD5-2A25-418F-B522-CE0BA8AE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519-00D9-435B-A90F-F0A8AAB6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D032-9C6F-4094-9453-B413D8B7ECBD}" type="slidenum">
              <a:rPr b="0" lang="ru-RU" sz="1000" spc="-1" strike="noStrike">
                <a:solidFill>
                  <a:srgbClr val="9b9a98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2B1A-964B-44CB-9F76-46E66BA561E1}" type="slidenum">
              <a:rPr b="0" lang="ru-RU" sz="1000" spc="-1" strike="noStrike">
                <a:solidFill>
                  <a:srgbClr val="9b9a98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1432-C49F-4F12-854F-6474DD8AE6D4}" type="slidenum">
              <a:rPr b="0" lang="ru-RU" sz="1000" spc="-1" strike="noStrike">
                <a:solidFill>
                  <a:srgbClr val="9b9a98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E391-9E13-4935-A0C2-271592065E57}" type="slidenum">
              <a:rPr b="0" lang="ru-RU" sz="1000" spc="-1" strike="noStrike">
                <a:solidFill>
                  <a:srgbClr val="9b9a98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екция.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Franklin Gothic Book"/>
              </a:rPr>
              <a:t>Финансовый контроль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0920" y="1069560"/>
            <a:ext cx="7467480" cy="119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В зависимости от субъектов, осуществляющих финансовый контроль, различают:</a:t>
            </a:r>
            <a:br>
              <a:rPr sz="41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2276280"/>
            <a:ext cx="7467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осударственны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нутрихозяйственны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щественны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зависимый (аудиторский) финансовый контрол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осударственный контроль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о финансовый контроль за своевременностью полнотой мобилизации государственных ресурсов, законностью расходов и доходов всех звеньев государственной финансовой системы, за соблюдением правил учета и отче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нутрифирменный финансовый контрол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утрихозяйственный финансовый контроль осуществляется экономическими службами предприятий, организаций и учреждений. Объектом здесь выступает производственная и финансовая деятельность самого предприятия, а также его структурных подраздел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ественный финансовый контро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полняют группы, специалисты на добровольной и безвозмездной осно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зависимый финансовый контро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существляют специализированные аудиторские фирмы и служб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00"/>
                </a:solidFill>
                <a:latin typeface="Franklin Gothic Book"/>
              </a:rPr>
              <a:t>Формы проведения финансового  контроля: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 времени провед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) предварительны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) текущий (оперативный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) последующ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финишный, результирующи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3964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существляется на стадии составления, рассмотрения и утверждения финансовых планов предприятия, смет доходов и расходов учреждений и организаций, проектов бюджетов, текстов договорных соглашений, учредительных документов и так дале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пособствует предотвращению неправильного, нерационального расходования материальных, трудовых и финансовых ресурсов, а также отрицательных финансовых результатов деятельности хозяйствующих органов в целом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озволяет предупредить нарушение законов и нормативных актов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1.Предварительный финансовый контроль </a:t>
            </a:r>
            <a:br>
              <a:rPr sz="43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Book"/>
              </a:rPr>
              <a:t>2. Текущий финансовый контроль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134100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роводится в процессе исполнения финансовых планов, в ходе осуществления хозяйственно-финансовых операций, когда проверяется соблюдение норм и нормативов расходования товарно-материальных ценностей и денежных средств, соответствие отпуска средств выполнению планов расходов, использованию ранее выданных ресурсов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редполагает системный факторный анализ деятельности предприятий и организаций в целях выявления полноты и своевременности расчетов с бюджето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ажное значение текущий финансовый контроль имеет в изыскании внутрихозяйственных резервов роста накоплени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Он производится повседневно финансовыми службами для исключения нарушений финансовой дисциплины в процессе исполнения финансовых планов предприятий, при открытии кредитов финансовыми органами, проверке документации по совершаемым операциям бухгалтерами предприятий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3.Последующий финансовый контроль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существляется после завершения отчетного периода и финансового года в цело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веряется целесообразность расходования государственных денежных средств при исполнении бюджетов, выполнении финансовых планов предприятий и организаций, смет бюджетных учрежден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ценка проведенных мероприятий производится в результате анализа использования материальных, трудовых и финансовых ресурсов, законности операций на основе первичных бухгалтерских документов, конечных финансовых результатов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000" y="475920"/>
            <a:ext cx="8218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о регламенту осуществления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) обязательный (внешний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относится, например, к налоговым проверкам, контролю за целевым использованием бюджетных ресурсов, обязательному аудиторскому подтверждению данных финансово – бухгалтерской отчетности и т.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б) инициативный (внутренний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о степени охва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) сплошной и выбороч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) тематический и комплекс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) полный и частичный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5280" y="188640"/>
            <a:ext cx="8291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"/>
              </a:rPr>
              <a:t>По уровню проведени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государственны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 внешний (со стороны кредиторов или инвесторов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) ведомственный (по отношению к филиалу, дочерней фирме т.п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) внутрифирменн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"/>
              </a:rPr>
              <a:t>По субъектам контрол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 президентский; законодательных органов власти и местного самоуправл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полнительных органов вла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)финансово – кредитных органов (учреждений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) внутрифирменны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)ведомстве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) аудиторск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ff00"/>
                </a:solidFill>
                <a:uFillTx/>
                <a:latin typeface="Arial"/>
              </a:rPr>
              <a:t>По объектам (по сферам финансовой деятельности) контрол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юджетный; за внебюджетными фонд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вы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алютны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дитны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ахово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вестиционны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моженный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денежной масс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По методам проведения контроля, т.е. приемам и способам его проведения различают :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4920" y="2349000"/>
            <a:ext cx="75294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следова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зо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виз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10920" y="333000"/>
            <a:ext cx="7993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Проверка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изводится по отдельным вопросам финансово-хозяйственной деятельности предприятия на основе отчетных, балансовых и расходных документов. Выявляются нарушения финансовой дисциплины и намечаются мероприятия по устранению их негативных последств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Обследование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хватывает отдельные стороны деятельности предприятий, организаций и учреждений, но в отличие от проверок – по более широкому кругу показателей, и определяет финансовое положение хозяйствующих субъектов, перспективы их развития, необходимость реорганизации или переориентации производства. Проводятся опросы, анкетировани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Анализ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ак метод финансового контроля должен быть системным и пофакторным. Он проводится по периодической или годовой отчетности. Выявляются уровень выполнения плана, соблюдение норм расходования средств, финансовая дисциплина и т.д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4600" spc="-1" strike="noStrike">
                <a:solidFill>
                  <a:srgbClr val="ffff00"/>
                </a:solidFill>
                <a:latin typeface="Franklin Gothic Book"/>
              </a:rPr>
              <a:t>Вопросы лек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Сущность и принципы финансового контр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Виды финансового контр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10920" y="476280"/>
            <a:ext cx="80643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Надзор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это контроль за осуществлением финансовых операций в целях их приведения в соответствие с нормами и требованиями действующего законодательств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Arial"/>
              </a:rPr>
              <a:t>Наблюдение (мониторинг)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– это систематический контроль за использованием финансовых ресурсов субъекта контроля и его финансовым состоянием. Наблюдение может быть установлено кредитной организацией, но с согласия субъекта, введено арбитражным судом при установлении признаков финансовой несостоятельности хозяйствующего субъе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11280" y="40428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Arial"/>
              </a:rPr>
              <a:t>Ревизия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ыступает одним из важнейших методов финансового контроля и представляет проверку финансово-хозяйственной деятельности предприятия, организации за отчетный период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В зависимости от объекта различают ревизии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олные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частичные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тематические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комплексны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При этом они могут 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быть плановые и внеплановы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По степени охвата данных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процессе ревизии осуществляются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плошные проверки, когда контролируются все документы и материальные ценности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и выборочные, суть которых заключается в контроле части документов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По характеру материала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, на основе которого проводятся ревизии, они подразделяются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на документальные (проверка подлинности отчетных документов и записей в учетных регистрах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и фактические (проверка наличия денежных средств и материальных ценностей в натуре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нансовый контроль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э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отъемлемый элемент управления финансами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енежными потоками с целью обеспечения целесообразности и эффективности финансовых опера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онодательно регламентированная деятельност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ециально созданных учрежден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троля и контролеров аудиторов за соблюдением финансового законодательства и финансовой дисциплины всех экономических субъек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овокупность целенаправленных мероприяти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роверке соответствия фактического состояния финансовой системы плановому или отчетн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Финансовый контроль включает проверку: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ения требований экономических закон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тимальности пропорций распределения и перераспределения стоимости ВНП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я и исполнения бюджета (бюджетный контроль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нансового состояния и эффективного использования трудовых, материальных и финансовых ресурсов предприят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также налоговы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Перед финансовым контролем стоят задачи: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содействие </a:t>
            </a: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сбалансированности между потребностью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 финансовых ресурсах и </a:t>
            </a: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размерами денежных доходов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 фондов народного хозяйства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обеспечение своевременности и </a:t>
            </a: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полноты выполнения финансовых обязательств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перед государственным бюджетом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выявление внутрипроизводственных резервов роста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финансовых ресурсов, в том числе по снижению себестоимости и повышению рентабельности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содействие рациональному расходованию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материальных ценностей и денежных ресурсов на предприятиях, в организациях и бюджетных учреждениях, а также правильному ведению бухгалтерского учета и отчетности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Arial"/>
              </a:rPr>
              <a:t>обеспечение соблюдения действующего законодательства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и нормативных актов, в том числе и в области налогообложения предприятий, относящихся к различным организационно-правовым форма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640" y="301680"/>
            <a:ext cx="7486560" cy="750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Объект финансового контрол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7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цессы образования, распределения и использования финансовых ресурсов субъектами хозяйствования и органами государственной власти и местного самоуправления, характеризующиеся системой различных стоимостных показ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Непосредственным предметом проверо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ступают финансовые (стоимостные) показатели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быль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оходы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ДС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нтабельность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бестоимость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здержки обращения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числения 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зличные цели и фонд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Субъекты финансового контроля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773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пециально уполномоченные органы, а также квалифицированные специалисты, осуществляющие свою контрольную деятельность в соответствии с нормами прав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Основные понятия финансового контроля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836640"/>
            <a:ext cx="777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цесс финансового контрол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это процесс целенаправленной деятельности субъектов контроля, осуществляемой с использованием определенных мето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оды финансового контрол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это конкретные способы осуществления контрольных действий и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а контрол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это внешнее выражение контрольных действий и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роцедура контрол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– это установленный порядок осуществления контрольных действий и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Механизм финансового контроля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- это определенная последовательность процедур финансового контроля в совокупности с используемыми методами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Franklin Gothic Book"/>
              </a:rPr>
              <a:t>Принципы финансового контроля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всеобщ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универсальности (заключается в однотипности приемов контрол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гл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достоверности, т.е. контроль должен опираться на правдивые данные о составлении финансового докумен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) действенности, т.е. по результатам проверки должны приниматься определенные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29:29Z</dcterms:created>
  <dc:creator>www.MRMARKER.ru</dc:creator>
  <dc:description/>
  <dc:language>en-US</dc:language>
  <cp:lastModifiedBy>User</cp:lastModifiedBy>
  <dcterms:modified xsi:type="dcterms:W3CDTF">2020-10-21T11:33:07Z</dcterms:modified>
  <cp:revision>30</cp:revision>
  <dc:subject/>
  <dc:title>Тема 4. Финансовый контроль</dc:title>
</cp:coreProperties>
</file>